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D0F-0A11-46E2-A195-F875B35A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70E-B18C-47F0-A39B-BF016FC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EA1-9F2A-457A-9C15-BB06448A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02E-35B3-4013-A080-7BEED45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EF1-9928-4F5F-A835-18EB947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508-6DBA-4FAB-BE65-8BF20DA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626-2386-440D-B7A8-53750EC2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3CE-1A49-46F7-8C2C-E8233E1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635-5F2A-4636-8F2A-B6E92C6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813-F8EA-478C-B650-3DB7B92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5AB-C965-46F3-B4C4-CC971A20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F73-3A63-4AE4-A3AF-CE2D593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972-75EA-4C5D-8A21-3AAD0B00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0219416ekJGdecUPx_ph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34800"/>
            <a:ext cx="16765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قى 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باً وأ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رؤياك نفسي تحلُم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رى وجهك ي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نت الذي دوما ترا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42280" y="228600"/>
            <a:ext cx="1701720" cy="10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ربي دو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ثقاً أمري أُسلِّم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تقبلني مبتس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ك همّي تعلم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5:22Z</dcterms:created>
  <dc:creator>SUZANNE.MD</dc:creator>
  <dc:description/>
  <dc:language>en-US</dc:language>
  <cp:lastModifiedBy>USER</cp:lastModifiedBy>
  <dcterms:modified xsi:type="dcterms:W3CDTF">2003-01-16T15:33:11Z</dcterms:modified>
  <cp:revision>6</cp:revision>
  <dc:subject/>
  <dc:title>PowerPoint Presentation</dc:title>
</cp:coreProperties>
</file>